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8EF-5FAD-425E-BDAF-F59D57AB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AB7-13C1-41B0-9A09-3FC2E359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874-B033-49A8-9913-121C4F12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E64-E829-4435-91F6-F9BC2558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405-086F-476B-A3EE-7B53691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C01-5630-4FBE-811C-6A3E268D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DF2-ACF5-4729-A795-1806960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948-3C58-4E4F-905F-52E7F2F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478-88FE-4C6D-BB25-4A8E4450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6AF-F27E-452E-A0FB-B63B55F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287-804F-4D3E-8719-9389ABA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6AA-D234-4F95-AC39-D8CE0EB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287D-5FDD-4BAD-8F60-5EBA98A86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6172200" y="4648320"/>
            <a:ext cx="282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43434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Matthew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5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Per. #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Com #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6094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auhaus 93"/>
              </a:rPr>
              <a:t>M&amp;M'S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23120" y="51735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257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4917960"/>
            <a:ext cx="359748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uhaus 93"/>
              </a:rPr>
              <a:t>Music: free play mus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auhaus 93"/>
              </a:rPr>
              <a:t>Jazz</a:t>
            </a:r>
            <a:r>
              <a:rPr b="0" lang="en-US" sz="2000" spc="-1" strike="noStrike">
                <a:solidFill>
                  <a:srgbClr val="000000"/>
                </a:solidFill>
                <a:latin typeface="Bauhaus 93"/>
              </a:rPr>
              <a:t>  6/1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auhaus 93"/>
                <a:hlinkClick r:id="rId2"/>
              </a:rPr>
              <a:t>www.freeplaymusi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Mars"/>
          <p:cNvPicPr/>
          <p:nvPr/>
        </p:nvPicPr>
        <p:blipFill>
          <a:blip r:embed="rId1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1814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952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REST MARS,S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eb.mit.edu/invent/iow/mars.html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INVENTION/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M&amp;M’s are one of the most manifested candy of 2008 to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Forrest Mars S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arch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erlin Sans FB Dem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Forrest Mars was born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orrest Mars Created M&amp;m’s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Forrest Mars Father Frank had been running a successful candy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9:03Z</dcterms:created>
  <dc:creator>install</dc:creator>
  <dc:description/>
  <dc:language>en-US</dc:language>
  <cp:lastModifiedBy>install</cp:lastModifiedBy>
  <dcterms:modified xsi:type="dcterms:W3CDTF">2011-06-01T17:35:46Z</dcterms:modified>
  <cp:revision>15</cp:revision>
  <dc:subject/>
  <dc:title>Slide 1</dc:title>
</cp:coreProperties>
</file>